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jpeg" ContentType="image/jpeg"/>
  <Override PartName="/ppt/media/image25.wmf" ContentType="image/x-wmf"/>
  <Override PartName="/ppt/media/image14.png" ContentType="image/png"/>
  <Override PartName="/ppt/media/image21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6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1571-A50C-48AE-8D14-7EF61D7A7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заици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6281-5960-4B94-B665-220C6AE1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215-CA88-4192-8DBB-9CAF4559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B9F-8B27-421A-88E2-893141F9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9CD-F553-481A-BDDE-28FDAA5F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21B-799D-425A-881F-900960C9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D51F-659D-4764-A9A6-F99CE888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9D65-2724-4DE3-AA61-FF23830D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57F8-EBBC-4BA9-8094-CF60867B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A5C-BC82-48D0-9818-E3567185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CD71-92EA-4EA3-8EE0-E12EF25D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2CDB-B300-4C18-81FF-36D5BED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FC39-9DC6-421C-8B03-6E60E09D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B22-00E0-4673-A68C-9F9A307A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6ED4-AC40-4CEC-8EA4-C9EC7EDE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B204-EEB2-4C9C-8620-FB2F945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02EF-DC1F-4D39-9496-3E9E6846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5B36-D365-4528-8EA7-D14DF184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492E-3BD8-43D9-93FD-F8EB0DCB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E94D-979E-4AD8-86D8-3FE3F235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A377D-42BB-43A2-BA14-F3636232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6BEF-C284-46CE-9E7D-BB9E3E8E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7B8F-B49B-4D36-B70D-78D85899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513C2-7B6B-49D8-91B0-361EF236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DDC-710A-45AE-98BA-770C7821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1D49-57D1-42D4-A50B-4122C4A5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BCC1-4F90-4702-AFA7-FCFBC60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C36D-32E2-4EFE-BD55-7CEDD5AF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D756-4AD0-422C-8416-355C2CBB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E136-BE25-404F-9434-D79D6994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361A-4D2A-476F-BABF-714B7EB7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2001-0589-4C2D-B4DD-6703608F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9049-413F-450B-81B3-BC546601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948D-7E12-4391-8CF5-E0F2E52D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ECBE2-B95E-4A52-B591-A5A5B1DC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386-075A-48A6-BC51-77F24010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0A0F-4860-4716-A66E-170186B7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B941-EA0F-4E6A-A7B2-38DA2D87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4602-3239-4317-87CC-261B965F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660AF-922A-4CD2-B339-29062FA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529C9-7F00-4338-9B28-847660B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353FD-118B-4B5B-9C5C-280AEFC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ED34-72B3-420F-A63B-2AC71276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B0CA-7194-4869-850A-04706B14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4A50B-3CB7-42E5-9BED-D531398A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7D10-F547-433F-A7FF-5BE89B5A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F80-07D8-46D5-90DC-5FEF194F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3534F-E9F7-4D5B-AB9A-63B3C757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522E7-BA5F-4236-B05C-3975007D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B372F-3641-44AE-9CA8-2B0DB79E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6C24-8C89-4E2A-B0A6-D2B2F170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68657-2697-448A-9D94-306AB54B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B3E75-A5EC-40C4-9747-DC2DC63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B14C4-31B1-499E-AB6A-894E3566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595A-BAE1-448F-B53D-2077A67D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FC79-3F23-4E0F-BBF1-6E8A5884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8774-06A0-4EB3-81DA-6E80EF5D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F14-4064-4FCA-89ED-DDF9806C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BCF02-575C-44C6-9BAF-BDA139C3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75D27-1646-46D6-AF94-C80BD7DA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393B8-5CBC-4182-B0A7-84A89336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3913-877F-4E00-B720-3D1BEA07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91AD-ADB8-4CA6-AD5F-07C32B72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D985B-177F-470B-8BBD-CD81E3F2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69589-B4D5-4A54-8D00-C1C2653A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A06E3-F160-4D81-98F5-415F9B95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21AE3-7342-46E6-A7FD-1DE2F3B6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D855C-63FA-46FA-8BB7-BE85F2C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D50-B53E-45E9-8483-62544197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DF5CA-77A2-44E8-8040-CA452E60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A2B0-A7FA-4A02-AFFB-980A1B9A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37ABF-CAE3-423A-8EBA-94886AEE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D71-74F5-4341-BB55-FFC3E5B5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70E-7DE7-4233-8F7F-A99266C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9ED-8736-46A8-BA48-CBFE476569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AD1B-EC77-4359-BC3F-46501A3D160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A2ED-3319-4BD8-BC03-FA9912A9C0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A31D-2E84-4416-AE50-7068D65BA2F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F283-4FA5-451B-93AB-FFF410A3B4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2349-DFE7-4FC9-9C51-FF7559E53C1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xqFQoTCKCmwbT9m8cCFVIH2woddhECKw&amp;url=http://www.bio.utexas.edu/faculty/sjasper/bio212/mendel.html&amp;ei=mkTHVaDxJdKO7Ab2oojYAg&amp;psig=AFQjCNGC7MB1G5kLrPLCM4ghw3hUyzqXvg&amp;ust=1439208692932986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xqFQoTCKXVmNP7m8cCFU4o2wodk3sAvQ&amp;url=http%3A%2F%2Fwww.hadassah-med.com%2Fchildren-site%2Fparents%2Ftests-and-diagnosis%2Fprenatal-tests&amp;ei=wkLHVaXsBc7Q7AaT94HoCw&amp;bvm=bv.99804247,d.ZGU&amp;psig=AFQjCNGYgCydCkdo0ZGBYkChDGxsTvIYiA&amp;ust=1439208504787542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prenatalna 4"/>
          <p:cNvPicPr/>
          <p:nvPr/>
        </p:nvPicPr>
        <p:blipFill>
          <a:blip r:embed="rId1"/>
          <a:stretch/>
        </p:blipFill>
        <p:spPr>
          <a:xfrm>
            <a:off x="2895480" y="342900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12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Calibri"/>
              </a:rPr>
              <a:t>PRENATAL DIAGNOSTICS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PP-А   (pregnancy-associated plasma protein 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is created in the syncytiotrophoblast cells of the placen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maximum level is reached at the time of delive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low level of this hormone during the first trimester indicates a chromosomal abnormality in the fet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DEFINITIVE DIAGNOSIS IS MADE THROUGH CHROMOSOME ANALYS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1"/>
          <a:srcRect l="75912" t="63341" r="0" b="0"/>
          <a:stretch/>
        </p:blipFill>
        <p:spPr>
          <a:xfrm>
            <a:off x="6823080" y="301680"/>
            <a:ext cx="18288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vasive prenatal diagnostic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isk of spontaneous abortion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orion biopsies 1-2%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niocentesis 0.3-1%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docentesis 1%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tal injuries have not been seen to dat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IONIC VILLUS SAMPLING – CV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the 8th and 12th week of pregnancy (first trimester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thod is based on the fact that the trophoblast has identical genetic material to the fet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CVS PI - UpToDate"/>
          <p:cNvPicPr/>
          <p:nvPr/>
        </p:nvPicPr>
        <p:blipFill>
          <a:blip r:embed="rId1"/>
          <a:stretch/>
        </p:blipFill>
        <p:spPr>
          <a:xfrm>
            <a:off x="5029200" y="3657600"/>
            <a:ext cx="405936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"/>
          <p:cNvSpPr/>
          <p:nvPr/>
        </p:nvSpPr>
        <p:spPr>
          <a:xfrm>
            <a:off x="304920" y="3733920"/>
            <a:ext cx="4713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is 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6bdb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6bdb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ervical - rarely used due to increased risk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1294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omosome analysis can be performed directly on the tissue of chorionic villi (finding metaphases) or after cultiv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omosomal aberrations, metabolic disorders and molecular defects are detec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6" descr="http://www.zo.utexas.edu/faculty/sjasper/images/14.17.gif">
            <a:hlinkClick r:id="rId1"/>
          </p:cNvPr>
          <p:cNvPicPr/>
          <p:nvPr/>
        </p:nvPicPr>
        <p:blipFill>
          <a:blip r:embed="rId2"/>
          <a:srcRect l="0" t="51985" r="0" b="8347"/>
          <a:stretch/>
        </p:blipFill>
        <p:spPr>
          <a:xfrm>
            <a:off x="662040" y="3809880"/>
            <a:ext cx="7924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the method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carried out during the first trimester of pregnanc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peed of obtaining results (in a maximum of 3 day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dvantages of the method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taining a sufficient number of metaphases for karyotype analy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ability to diagnose all aberrations (fra X and mosaicism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isk of causing spontaneous abortion when taking the sample, bleeding and infe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NIOCENTES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arried out in strictly indicated pregnanc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optimal time to perform is between the 16th and 18th week (second trimester of pregnancy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niotic fluid is punctured transabdominally under ultrasound contro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202124"/>
                </a:solidFill>
                <a:latin typeface="Arial"/>
                <a:ea typeface="Arial"/>
              </a:rPr>
              <a:t>Transabdominal puncture of amniotic flu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105520" y="14475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rst 1-2 ml of puncture fluid is discarded, as it contains maternal cell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mniotic fluid is sent for the necessary analysi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ytogenetic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chemic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8" descr="http://www.hadassah-med.com/media/3156574/amniocentesi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209680"/>
            <a:ext cx="3353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http://carolguze.com/images/prenatal/amnio.gif"/>
          <p:cNvPicPr/>
          <p:nvPr/>
        </p:nvPicPr>
        <p:blipFill>
          <a:blip r:embed="rId1"/>
          <a:stretch/>
        </p:blipFill>
        <p:spPr>
          <a:xfrm>
            <a:off x="1143000" y="380880"/>
            <a:ext cx="6477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1285920"/>
            <a:ext cx="84582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case of a twin pregnancy, it is necessary to do a karyotype of both fetu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28600" y="1066320"/>
            <a:ext cx="8229600" cy="686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sadvantages of amniocentesi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uncture in the second trimester of pregnanc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onger-term cultivation of cells (2-3 week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ell cultivation is not always successful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ossibility of diagnosing all chromosomal aberrations (Fra 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alysis of X and Y chromati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mniotic cells are NOT cultur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 analysis of X (Barr's body) and Y chromatin is perform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method is important for mothers who are at risk of giving birth to male children with serious diseases linked to the X chromoso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Arial"/>
                <a:ea typeface="Arial"/>
              </a:rPr>
              <a:t>Genetic counsel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5520" y="1865160"/>
            <a:ext cx="822960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st important area of ​​human genetics is Genetic couns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tic counseling includ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ing an anamnesis and creating a genealogy tr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nical examination of individual family me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ing an accurate diagnosis prognosis and possible forms of treat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risk for recurrence of hereditary disease/disorder in the fami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DOCENTES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of intrauterine puncturing of the sample of fetal blood from the umbilical cor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one between the 18th and 22nd week of pregnanc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thod i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eutic (therapy can be given to the fetu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ions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the fetal state at the end of a problematic pregnanc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osomal disorder not confirmed by amniocentesis or CV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aicism now being confirmed on fetal peripheral blood lymphocy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0600" y="2514240"/>
            <a:ext cx="403848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 X chromosome analysis - as the mitotic index of amniocytes is not suffici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deletion syndro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qu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240" y="20574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jection is performed on the mother's abdomen under local anesthes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 ultrasound control, the needle is guided to the umbilical cord of the fe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tal blood is punctured and cultured for 72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10" descr="JaypeeDigital | eBook Reader"/>
          <p:cNvPicPr/>
          <p:nvPr/>
        </p:nvPicPr>
        <p:blipFill>
          <a:blip r:embed="rId1"/>
          <a:stretch/>
        </p:blipFill>
        <p:spPr>
          <a:xfrm>
            <a:off x="4867200" y="2057400"/>
            <a:ext cx="38019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vention ris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emato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mbilical cord thrombos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fection and bleeding (which is not dangerous andusually stops in about 60 second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isk of fetal loss is about 1%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-invasive prenatal test (NIPT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86840" y="182844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Analysis of fetal DNA from maternal peripheral blood (non-invasive method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Fetal DNA is present in the blood of a pregnant woman as early as 5 gestational week (GW), but a sufficient amount for the test is achieved at 10 GW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1"/>
          <a:stretch/>
        </p:blipFill>
        <p:spPr>
          <a:xfrm>
            <a:off x="4267080" y="1512720"/>
            <a:ext cx="47116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most often used in the detection of trisomies (21, 13, 18) and aneuploidy of sex chromosom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ase aneuploidy is detected, the result should be confirmed by an invasive diagnostic proced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7" descr="Non-Invasive Prenatal Test (NIPT) - Thumbay labs"/>
          <p:cNvPicPr/>
          <p:nvPr/>
        </p:nvPicPr>
        <p:blipFill>
          <a:blip r:embed="rId1"/>
          <a:stretch/>
        </p:blipFill>
        <p:spPr>
          <a:xfrm>
            <a:off x="1847880" y="3440160"/>
            <a:ext cx="54482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202124"/>
                </a:solidFill>
                <a:latin typeface="Arial"/>
                <a:ea typeface="Arial"/>
              </a:rPr>
              <a:t>PRE-IMPLANTATION DIAGNOSTIC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2468160"/>
            <a:ext cx="822960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involves diagnostics before the embryo is implanted in the endometrium of the uteru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is carried out on an embryo at the stage of 8 blastomeres, which is not yet directed towards the differentiation of a specific tiss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293840"/>
            <a:ext cx="45720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piration biops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most often used - the obtained cell is used for analysis of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gene mu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well as molecular cytogenetics methods for analysis of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hromosomal aberr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3" name="Picture 6" descr="http://lakecharlesobgyn.com/Images/infertility-49.jpg"/>
          <p:cNvPicPr/>
          <p:nvPr/>
        </p:nvPicPr>
        <p:blipFill>
          <a:blip r:embed="rId1"/>
          <a:stretch/>
        </p:blipFill>
        <p:spPr>
          <a:xfrm>
            <a:off x="4854600" y="1523880"/>
            <a:ext cx="4105080" cy="3743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http://www.ivfcenterhawaii.com/images/PGD_IVF.jpg"/>
          <p:cNvPicPr/>
          <p:nvPr/>
        </p:nvPicPr>
        <p:blipFill>
          <a:blip r:embed="rId2"/>
          <a:stretch/>
        </p:blipFill>
        <p:spPr>
          <a:xfrm>
            <a:off x="1012680" y="4668840"/>
            <a:ext cx="28670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agnosis of genopathi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246852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utated gene must be know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C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ctrophores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thern blo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pping of restriction si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454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6000" spc="-1" strike="noStrike">
                <a:solidFill>
                  <a:srgbClr val="04617b"/>
                </a:solidFill>
                <a:latin typeface="Calibri"/>
              </a:rPr>
              <a:t>METHODS OF MOLECULAR GENETIC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parents with a high risk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natal diagnos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natal diagnostics includ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ly detection of hereditary and intrauterine acquired fetal diseases caused primarily by changes in the genetic material (chromosomal aberrations and gene mutations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NA ISOLATION </a:t>
            </a:r>
            <a:br>
              <a:rPr sz="24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can be isolated from any cell with a nucleus (lymphocytes, root hair, body fluids, urine, chorionic villi, amnionic fluid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lassic procedure for DNA isolation involves disruption of cell and nuclear membranes and release of DNA from protein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is stable and stored as an aqueous solution at +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or -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oli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PCR)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, specific and highly sensitive metho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ables the selective multiplication of a specific segment of the DNA molecu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ased on the principles of DNA replic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gredients of the PCR mixture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q polymeras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 nucleotid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gnesium 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hases of the PCR reaction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26708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Denatu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DNA (breaking hydrogen bonds between stran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imer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hybrid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with DNA temp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imer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elong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(incorporation of nucleotides at the 3' end of the primer catalyzed by DNA polymeras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6" name="Picture 6" descr="pcrsteps"/>
          <p:cNvPicPr/>
          <p:nvPr/>
        </p:nvPicPr>
        <p:blipFill>
          <a:blip r:embed="rId1"/>
          <a:stretch/>
        </p:blipFill>
        <p:spPr>
          <a:xfrm>
            <a:off x="4191120" y="1447920"/>
            <a:ext cx="47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IMATION OF PC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dnalc.org/view/15507-The-cycles-of-the-polymerase-chain-reaction-PCR-3D-animation-with-no-audio-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L ELECTROPHORE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ion of DNA or RNA molecules is achieved in an electric field as they move through the gel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s move in proportion to their siz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NA and RNA move towards the positive pole (ano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191120" cy="2789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5303880" y="4114800"/>
            <a:ext cx="3840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LOTT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 of bands from agarose gel to nylon membran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s of blotting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thern blot - transfer of DNA frag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rthern blot - mRNA transf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stern blot - protein transf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dication for prenatal diagnosti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245700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's age (over 35 years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's age (over 40 years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ous child with chromosomal aberr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romosomal aberrations in the famil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nogenic disorders in the famil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ldren born with multiple anomal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ities of the fetus seen by ultrasound exam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or more spontaneous abortions of unknown ca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s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invasive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Ultras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regnancy-specific hormone levels in the mother's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sis of fetal DNA in maternal peripheral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832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asiv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Biopsy of chorionic vill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mniocente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Cordocente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ltrasound examin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does not expose either the mother or the fetus to ri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outine screening procedure that detects fetal structural abnormalities (neural tube defects, heart defects, kidney, limb abnormaliti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457200" y="4253040"/>
            <a:ext cx="2432160" cy="24318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845320" y="402444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gn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177840" y="387180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hal transluc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Polidactilia Dedos extras en manos o pies - Infogen"/>
          <p:cNvPicPr/>
          <p:nvPr/>
        </p:nvPicPr>
        <p:blipFill>
          <a:blip r:embed="rId2"/>
          <a:stretch/>
        </p:blipFill>
        <p:spPr>
          <a:xfrm>
            <a:off x="3352680" y="4724280"/>
            <a:ext cx="2670120" cy="1697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Predictive Factors for Perinatal Outcomes of Infants Diagnosed With  Micrognathia Antenatally"/>
          <p:cNvPicPr/>
          <p:nvPr/>
        </p:nvPicPr>
        <p:blipFill>
          <a:blip r:embed="rId3"/>
          <a:stretch/>
        </p:blipFill>
        <p:spPr>
          <a:xfrm>
            <a:off x="6486480" y="4683240"/>
            <a:ext cx="2309760" cy="17380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8"/>
          <p:cNvSpPr/>
          <p:nvPr/>
        </p:nvSpPr>
        <p:spPr>
          <a:xfrm>
            <a:off x="2994120" y="403380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dact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ternal serum screening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fetoprotei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AF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tal equivalent of albumin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in protein of fetal blood during the first trimest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created by the yolk sac, and in the second trimester by the fetus's liv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created during pregnancy, it is normally NOT detected in healthy peop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coded by a gene on chromosome 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mother's blood, the level increases until the 32nd week of gestation, and then de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0492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AFP values ​​are indicators of a chromosomal anomaly (trisomy 13, 18 or 21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levated AFP value may indicate an open neural tube, anencephaly, abdominal wall defect, intrauterine fetal bleeding, threatened miscarriage, multiple pregnancy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1905120" y="3429000"/>
            <a:ext cx="4686120" cy="3352680"/>
            <a:chOff x="1905120" y="3429000"/>
            <a:chExt cx="4686120" cy="3352680"/>
          </a:xfrm>
        </p:grpSpPr>
        <p:pic>
          <p:nvPicPr>
            <p:cNvPr id="307" name="Picture 4" descr=""/>
            <p:cNvPicPr/>
            <p:nvPr/>
          </p:nvPicPr>
          <p:blipFill>
            <a:blip r:embed="rId1"/>
            <a:srcRect l="1335" t="56152" r="51194" b="9260"/>
            <a:stretch/>
          </p:blipFill>
          <p:spPr>
            <a:xfrm>
              <a:off x="2320200" y="3429000"/>
              <a:ext cx="3739320" cy="15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" descr=""/>
            <p:cNvPicPr/>
            <p:nvPr/>
          </p:nvPicPr>
          <p:blipFill>
            <a:blip r:embed="rId2"/>
            <a:srcRect l="36357" t="24325" r="41504" b="49386"/>
            <a:stretch/>
          </p:blipFill>
          <p:spPr>
            <a:xfrm>
              <a:off x="4847400" y="5449320"/>
              <a:ext cx="1743840" cy="11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4" descr=""/>
            <p:cNvPicPr/>
            <p:nvPr/>
          </p:nvPicPr>
          <p:blipFill>
            <a:blip r:embed="rId3"/>
            <a:srcRect l="1335" t="17412" r="62869" b="49386"/>
            <a:stretch/>
          </p:blipFill>
          <p:spPr>
            <a:xfrm>
              <a:off x="1905120" y="5294520"/>
              <a:ext cx="2819520" cy="148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04920" y="1020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HCG –human chorionic gonadotrop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produced by the placenta (placental syncytiotrophoblast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unit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G) is determine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ultiple increase in the value o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G indicates a chromosomal anomaly (trisomy 13, 18 or 2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7" descr="Pregnancy test:- Part 1 - Normal Pregnancy, Beta-HCG, Human Chorionic  Gonadotropin (HCG), Ectopic Pregnancy - Labpedia.net"/>
          <p:cNvPicPr/>
          <p:nvPr/>
        </p:nvPicPr>
        <p:blipFill>
          <a:blip r:embed="rId1"/>
          <a:stretch/>
        </p:blipFill>
        <p:spPr>
          <a:xfrm>
            <a:off x="4438800" y="4173480"/>
            <a:ext cx="3297240" cy="2092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Pregnancy test:- Part 1 - Normal Pregnancy, Beta-HCG, Human Chorionic  Gonadotropin (HCG), Ectopic Pregnancy - Labpedia.net"/>
          <p:cNvPicPr/>
          <p:nvPr/>
        </p:nvPicPr>
        <p:blipFill>
          <a:blip r:embed="rId2"/>
          <a:stretch/>
        </p:blipFill>
        <p:spPr>
          <a:xfrm>
            <a:off x="1407960" y="4141800"/>
            <a:ext cx="22338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0:03:58Z</dcterms:created>
  <dc:creator>Olivera Djordjevic</dc:creator>
  <dc:description/>
  <dc:language>en-US</dc:language>
  <cp:lastModifiedBy>Microsoft Office User</cp:lastModifiedBy>
  <dcterms:modified xsi:type="dcterms:W3CDTF">2025-02-05T10:46:34Z</dcterms:modified>
  <cp:revision>110</cp:revision>
  <dc:subject/>
  <dc:title>11. Методе пренаталне дијагностике</dc:title>
</cp:coreProperties>
</file>